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60A-F14B-428B-8193-7D479333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AD4-3BDF-45DC-9639-259525E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6DC-6BFE-465F-AF97-8FD354BC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7A7-0B93-4394-91CE-4E458EAA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7C1-3812-4B37-826B-F5D0EEC7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24D-8E03-480F-9ACB-F0623D08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166-67BA-4FD3-8951-809B50D9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D8B-A43B-4DF6-80E1-46E92887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FC6-86D7-4A3A-9FB9-79B34176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FE4-93A7-4DCF-827D-0DAD2F7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071-0DF1-4F63-87F9-04B7E781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E5A-7274-406B-9993-710C4ED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9AD-9318-486B-A0F5-D5397DE6C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PieCol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, для создания круговых диаграмм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27640" y="5661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аре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истрация на сайте не требуется. Можно сразу приступать к созданию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34480" cy="5457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5280" y="32130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141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вести количество долей (до 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335772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569080" cy="656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72360" y="62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звания д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614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вет д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62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центное со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052640"/>
            <a:ext cx="1224000" cy="187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19280" y="980640"/>
            <a:ext cx="28872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981000"/>
            <a:ext cx="936720" cy="20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788000" y="980640"/>
            <a:ext cx="50472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1052640"/>
            <a:ext cx="1008360" cy="20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164360" y="980640"/>
            <a:ext cx="2872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3789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бор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2349360"/>
            <a:ext cx="165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019640" y="4076640"/>
            <a:ext cx="57636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3860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звание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42148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вет названия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45752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азмер шриф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4941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ид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30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вет 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3080" y="5589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бор шриф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 цвета – подтверждается нажатием на нужный цвет в таб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316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мотр результ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34680" cy="50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4836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асштаб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1773360"/>
            <a:ext cx="3311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198900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1197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дактировать диагра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1413000"/>
            <a:ext cx="20178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ернуться на главн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413000"/>
            <a:ext cx="1079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609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охранить диаграмму как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6093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ить код диаграммы для вставки в блог или на 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805360"/>
            <a:ext cx="10083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2720" y="5734080"/>
            <a:ext cx="2303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пешной рабо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09:49:40Z</dcterms:created>
  <dc:creator>Maxim</dc:creator>
  <dc:description/>
  <dc:language>en-US</dc:language>
  <cp:lastModifiedBy>Maxim</cp:lastModifiedBy>
  <dcterms:modified xsi:type="dcterms:W3CDTF">2011-11-24T10:19:02Z</dcterms:modified>
  <cp:revision>2</cp:revision>
  <dc:subject/>
  <dc:title>PieColor </dc:title>
</cp:coreProperties>
</file>